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A8B-4FB8-42FF-990E-F3CB33B3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FF9-9AB2-414C-AF85-AD547BAE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152-4DF1-4843-8556-FB5B10C9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1B7-2407-403F-94FC-89501D9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EA5-8A91-4787-8576-04C20A0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A589-37A2-4F9D-94B9-A5D33049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DA16-3131-4DCE-B69F-7490DBC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DE4-18F6-4590-90BF-5860FFE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F9C9-FD08-4238-BC41-E293E40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EC3-6A1E-44B7-A24F-4D544E3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FF0-C7A9-4348-B527-876DF5D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175-63DA-4868-9E6F-E528BB7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877D-7E34-4C12-98B5-2BC33436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CBE4-8B6A-47CE-9377-FBC85C8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51FB-CECC-4938-84E2-D42EA2E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6F5-CBA8-442B-9C80-233F1A5A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CDCE-C666-4DE0-B800-36BD473B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DB7-04A4-47E3-81BA-C2E3C9F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6FB-843D-401F-B4F4-833AF8C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6BC-5099-4907-A125-0EC73F1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458-D4D3-4DA4-A759-D546FBA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899-1123-44A9-8C1E-D5B4D78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93D-727E-4947-BEDE-C30CADF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E07-0217-47D7-B365-02A4D05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7D5-6D69-4B74-9D20-54BF5B98E2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20F-1096-4D92-8B50-43A608B38B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Ruth (continued)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th 3 -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9-1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80880"/>
            <a:ext cx="693432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day, March 27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.  Othniel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ju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king from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2.  Ehu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5053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-ha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big king Eglon of Moab inside his own house with a s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3.  Shamg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ew 600 Philistines with an ox g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362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502920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324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.  Deborah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ed Barak defeat Jabin &amp;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man, Jael, killed Sisera with tent s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905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5.  Gide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743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Midianites with 300 men with trumpets,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ephod with 50 lbs. of golden ear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9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6.  Abimele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appointed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his 70 half-brothers on a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by a woman who dropped a rock o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7.  Tol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23 years; that’s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8.  Jai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judge from east of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30 sons who rode 30 colts and ruled 30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9.  Jephtha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rior recruited by Gilead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 cost him his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0. Ibza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30 sons and 30 daugh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apped his 30 daughters for 30 foreig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1.  El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200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Israel 10 years; that’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2. Abd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40 sons and 30 nephews who rode on 70 c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28600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96252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3.  Sams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s a Nazarite; Tricked by 2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ed house down on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4.  El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124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’s guardian; own sons wi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t 2 wars, 2 sons and the ark to the Philistines; fell and broke his n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724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5.  Samu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562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the Philistines; 2 sons were co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the anointment of 2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64832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4267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he Ju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18:46Z</dcterms:created>
  <dc:creator>Frank D Vines</dc:creator>
  <dc:description/>
  <dc:language>en-US</dc:language>
  <cp:lastModifiedBy>Frank D Vines</cp:lastModifiedBy>
  <dcterms:modified xsi:type="dcterms:W3CDTF">2008-09-20T18:25:36Z</dcterms:modified>
  <cp:revision>20</cp:revision>
  <dc:subject/>
  <dc:title>Slide 1</dc:title>
</cp:coreProperties>
</file>